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gif" ContentType="image/gif"/>
  <Override PartName="/ppt/media/image8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00EC-7243-43A5-8ED8-59C0B266BD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Обязательные результаты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Называть основные объекты отдыха, лечения, туризма на территории окру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писывать по картам географические особенности рекреационных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бъяснять причины того или иного уровня развития рекреационного объект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1B81-CA6D-42A0-8AC1-3A16E09793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Тип урока: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 практическая раб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Оборудование: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 карты атласа, статьи из журналов, фотографии различных объектов рекреации Сибирского Ф.О. (Телецкое озеро, озеро Яровое, озеро Байкал, Горная Шория), видеофильм «Байкал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Атлас. География России. Часть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 I,II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. – Омск,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бзор журналов «Алтай. Знакомое и неизвестн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бзор российского географического журнала «Живописная Росс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бзор журналов «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GEO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Дидактический материал: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 карточка с планом описания объекта описания рекреационного о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D604-EA2D-4C6D-B506-B61594D841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Ход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Вступительное слово учителя о целях и задачах за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Выполнение практической работы после четкого инструктажа учителя. Учащиеся разбиваются на группы по 3-4 человека, выбирают (по желанию) объект рекреации, для составления его характеристики. Характеристика объекта выполняются по плану.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План характеристики рекреационного объ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Географическое положение (Г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Степень освоенности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D83D-3CE6-45F0-BDE8-C5D29309A4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Учащиеся озвучивают результаты работ и заполняют таб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Рекреационные ресурсы Сибирского Ф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Домашнее зад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На основе таблицы составить карту: «Рекреационные ресурсы Сибирского Ф.О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Разработать программу перспективного использования одного рекреационного ресурса (по выбору). Результаты представить  в творческой форме (форма выполнения выбирается с помощью учител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444B-B291-43BA-83F0-03F5B3C481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Соломин В.П., Финаров Д.П., Всемирное культурное и природное наследие//География в школе. – 1999. -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олеванов В. Потому что они существуют//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GEO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. – 2007. - №3. – с.160-17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етров Н.Н. Методика преподавания географии в дифференцированной школе. – М., 2000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равцов В.М., Донукалова Р.П. География Новосибирской области. – Новосибирск., 199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Новосибирская область: природа, население, хозяйство. – Новосибирск,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Уфимцев Г., Сизов А. Были и явь степного Алтая//Живописная Россия. – 2006. - №3. – с. 15-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География международного туризма // География в школе. – 2007. - №6. – с.70-7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Абдульмянов С.Н. Знакомтесь: Кош-Агач//География и экология в школе 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XXI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 век. – 2006. - №4. – с. 21-2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1078-70A3-42EA-9865-BD837762F8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илож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оллекция фотографий «Санатории Алта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оллекция фотографий «Байка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оллекция фотографий санаторий «Сибиря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оллекция фотографий «Телецкое озер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F617-3315-40C9-B110-ED213CECBB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бъяснительная запи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ивный курс «Рекреационная география Сибирского ФО» рассчитана на 18 часов и предназначен для изучения в социально-экономическом профиле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асс) профильн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снове содержания курса лежат знания, уже усвоенные учащимися при изучении географии, экономики,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урса – создание у учащихся представления о туризме в Сибирском ФО, о его проблемах и перспективах; формирование знаний о рекреационной деятельности; воспитание патриотического отношения к родному кра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й элективный курс является междисциплинарным и способствует решению следующих задач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владение системой знаний о физико-географических и экономико-географических аспектах формирования рекреации в Сибирском Ф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владению учащимися знаниями, умениями и навыками, позволяющими им самостоятельно давать оценку о развитии туризма в рекреационных зонах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76E9-2F78-4B01-AF96-2807E743BB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с базируется на природно-географических, экономико-географических и др. составляющих и предполагает приобретение и развитие знаний у старшеклассников о рекреации в Сибирском ФО, проблемах и перспективах развития. А также курс позволяет применить полеченные знания в ходе подготовки индивидуальных про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нный курс включает в себя сведения о природных ресурсах и природных условиях Сибирского ФО; экономический обзор туристической деятельности; географию рекреационных районов на территории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истема практических работ позволяет учащимся закрепить приобретённые знания, умения и навыки работы с картографическими, статистическими, экономико-географическими и д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ходе изучения данного курса возможно применение следующих форм обучения: урок, лекция, семинар, практикум, самостоятельная работа учащихся, экскурсии, представление и защита творческих рабо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4974-6B9B-44B2-88B9-EE63625C4F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одержание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едмет и понятия рекреационная география. Место в системе на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реация – это определённые виды избирательной жизнедеятельности людей в свободное время и пространство, в котором они функционируют. Рекреационная география находится на стыке наук: географии, экономики, истории, экологи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ставить ЛОК «Предмет и понятия рекреационная география. Место в системе нау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Физико-географические и экологические предпосылки развития рекреации в Сибирском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дные условия и природные ресурсы Сибирского ФО. Климат, рельеф и природные зоны данного региона. Экологическая обстановка в Сибирском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ать оценку экологического состояния территории Сибирского Ф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3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ко-географический фактор развития рекреации в Сибирском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й потенциал данной территории. Общий уровень развития, структура хозяйства, качество жизни, степень урбанизированности и мобильности населения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ать оценку экономико-географического положения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DB70-6BF5-4A47-BC83-0BDCA77ADA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4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ассы туристической деятельности. Виды тур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туристической деятельности. Виды туризма. Особенности туристической деятельности на территории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ворческое задание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работать туристический маршрут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5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уристический рынок на территории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 туризма на Мировом рынке и на внутреннем рынке. Особенности туристического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скурс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 туристическим фирмам г. Новосибир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6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креационные ресурсы Сибирского ФО. Проблемы и перспективы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реационно-ресурсный потенциал территории, выражающийся в количестве и качестве природных и культурно-исторических ресурсов. Проблемы и перспективы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ставить таблицу «Рекреационные ресурсы Сибирского Ф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остоятельн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 основе таблицы составить карту : «Рекреационные ресурсы Сибирского Ф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ворческое задание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работать программу одного рекреационного ресурса по выбо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скурсии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 святой источник г. Ложок; по санаториям и лагерям г. Бердска (санатории: «Рассвет», «Сибиряк» и др.; ДОЛ  «Юбилейный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25E0-0DB8-43E6-9224-72B1531375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Темат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3843-8F5D-44B5-A586-C74B1ADD96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Контрольно-измерительные материал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Лист оценки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Индивидуальная карта взаимооценки участника проек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BB73-335D-41C1-9CAE-F5A4E8DB36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Тема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Рекреационные ресурсы Сибирского Федерального округа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Проблемы и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DDFA-1EEF-4376-8044-6D5E6FB906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родолжить формирование представлений о рекреационных ресурсах Сибирского Ф.О., проблемах и перспективах развития отдыха, туризма, ле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развивать мышление и речь учащихся, в процессе работы с печатными изданиями и последующем представлении результатов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содействовать экологическому воспитанию, при рассмотрении проблем стоящих перед объектами рекреации Сибирского Ф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066A-7D8B-4847-BEEB-0A4001E3D4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3BEB-B4DF-4A25-9383-906A2AB7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82F7-0062-4508-BE4A-4F4EAFC5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D5C6-EE97-49C9-BF7B-7F91E880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7757-89BE-4130-BF94-A4C841EC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B808-1DEA-4A73-A816-575997AB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0EAA-8163-4F5A-9B4A-94CA64CD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D71E-61D7-489C-AED4-0D85755D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6867-56F5-43C9-8CBC-BAE49554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092A-3C0D-41BD-8300-815BCF98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138B-2DBF-4AAB-8F97-8A57D64C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1FD9-20E0-431E-BA2A-A95328DA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741C-F773-4F59-A27D-3EF5A951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00D5-CEF3-4AD9-AFCB-2F701788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BE8D-69CA-49B0-9EAB-8C4C4FDA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DAFB-CC6C-4310-891C-42E18FCB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FAB9-8F42-46AD-AA41-01CBB56A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26A5-2DFA-4ADB-9453-6194B31C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782C-7E7F-4D47-8082-5EF2E0AB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BAB3-7BE2-4DDE-B32E-14A1A9B7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C98D-CF51-4208-B781-B1F611B0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12EE-20AF-479D-92A8-1E6295E3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3FF-069D-4CEC-BD56-C5C4F127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1888-6E60-40BC-A324-1F1E9164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FCD-B733-4007-9A41-400FA67F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cc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4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3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8E6A-527F-49B9-A428-9251C3C78EC1}" type="slidenum">
              <a:rPr b="1" lang="ru-RU" sz="2800" spc="-1" strike="noStrike">
                <a:solidFill>
                  <a:srgbClr val="fff3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4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fff3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B815-52ED-40D4-BED2-E48BD8F59497}" type="slidenum">
              <a:rPr b="1" lang="ru-RU" sz="3200" spc="-1" strike="noStrike">
                <a:solidFill>
                  <a:srgbClr val="fff3ff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&#1083;&#1080;&#1089;&#1090;%20&#1086;&#1094;&#1077;&#1085;&#1082;&#1080;%20&#1087;&#1088;&#1086;&#1077;&#1082;&#1090;&#1072;.doc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Сибирский Федеральный округ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8" name="WordArt 7"/>
          <p:cNvSpPr txBox="1"/>
          <p:nvPr/>
        </p:nvSpPr>
        <p:spPr>
          <a:xfrm>
            <a:off x="539640" y="1557360"/>
            <a:ext cx="820908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Georgia"/>
              </a:rPr>
              <a:t>Рекреационная география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Georgia"/>
              <a:ea typeface="Georgia"/>
            </a:endParaRPr>
          </a:p>
        </p:txBody>
      </p:sp>
      <p:sp>
        <p:nvSpPr>
          <p:cNvPr id="129" name="WordArt 8"/>
          <p:cNvSpPr txBox="1"/>
          <p:nvPr/>
        </p:nvSpPr>
        <p:spPr>
          <a:xfrm>
            <a:off x="1835280" y="2492280"/>
            <a:ext cx="5976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Georgia"/>
              </a:rPr>
              <a:t>Сибирского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Georgia"/>
              <a:ea typeface="Georgia"/>
            </a:endParaRPr>
          </a:p>
        </p:txBody>
      </p:sp>
      <p:sp>
        <p:nvSpPr>
          <p:cNvPr id="130" name="WordArt 9"/>
          <p:cNvSpPr txBox="1"/>
          <p:nvPr/>
        </p:nvSpPr>
        <p:spPr>
          <a:xfrm>
            <a:off x="468360" y="4005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Georgia"/>
              </a:rPr>
              <a:t>Федерального округ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Georgia"/>
              <a:ea typeface="Georgi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Элективный ку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858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620280"/>
            <a:ext cx="76694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бязательные результаты обуч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31640" y="1700280"/>
            <a:ext cx="7086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Называть основные объекты отдыха, лечения, туризма на территории округ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писывать по картам географические особенности рекреационных объект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ъяснять причины того или иного уровня развития рекреационного объекта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8" descr="j0295178"/>
          <p:cNvPicPr/>
          <p:nvPr/>
        </p:nvPicPr>
        <p:blipFill>
          <a:blip r:embed="rId1"/>
          <a:stretch/>
        </p:blipFill>
        <p:spPr>
          <a:xfrm>
            <a:off x="6948360" y="5300640"/>
            <a:ext cx="2017800" cy="14349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57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19280" y="764640"/>
            <a:ext cx="672624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Тип урока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практическая рабо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31640" y="1268280"/>
            <a:ext cx="7086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Оборудование: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карты атласа, статьи из журналов, фотографии различных объектов рекреации Сибирского Ф.О. (Телецкое озеро, озеро Яровое, озеро Байкал, Горная Шория), видеофильм «Байкал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тлас. География России. Часть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 I,II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. – Омск, 200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Обзор журналов «Алтай. Знакомое и неизвестное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Обзор российского географического журнала «Живописная Россия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Обзор журналов «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GEO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Дидактический материал: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карточка с планом описания объекта описания рекреационного объек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62d8"/>
            </a:gs>
            <a:gs pos="50000">
              <a:srgbClr val="dedef7"/>
            </a:gs>
            <a:gs pos="100000">
              <a:srgbClr val="6262d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08660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Ход уро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4920" y="1484280"/>
            <a:ext cx="7086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10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ступительное слово учителя о целях и задачах заня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10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ыполнение практической работы после четкого инструктажа учителя. Учащиеся разбиваются на группы по 3-4 человека, выбирают (по желанию) объект рекреации, для составления его характеристики. Характеристика объекта выполняются по плану.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лан характеристики рекреационного объект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Географическое положение (ГП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Степень освоенности ресур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облем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ерспекти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62d8"/>
            </a:gs>
            <a:gs pos="50000">
              <a:srgbClr val="c5c5f1"/>
            </a:gs>
            <a:gs pos="100000">
              <a:srgbClr val="6262d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15640" y="1197000"/>
            <a:ext cx="726588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10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Учащиеся озвучивают результаты работ и заполняют таблиц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Рекреационные ресурсы Сибирского Ф.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105000"/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Домашнее задани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10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На основе таблицы составить карту: «Рекреационные ресурсы Сибирского Ф.О.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10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Разработать программу перспективного использования одного рекреационного ресурса (по выбору). Результаты представить  в творческой форме (форма выполнения выбирается с помощью учителя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87280" y="2565360"/>
          <a:ext cx="7201080" cy="1225440"/>
        </p:xfrm>
        <a:graphic>
          <a:graphicData uri="http://schemas.openxmlformats.org/drawingml/2006/table">
            <a:tbl>
              <a:tblPr/>
              <a:tblGrid>
                <a:gridCol w="1800360"/>
                <a:gridCol w="1513080"/>
                <a:gridCol w="1871640"/>
                <a:gridCol w="20160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ъект рекре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тепень осво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облемы и перспекти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58560" y="692280"/>
            <a:ext cx="7086600" cy="13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Список литератур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488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Соломин В.П., Финаров Д.П., Всемирное культурное и природное наследие//География в школе. – 1999. - №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олеванов В. Потому что они существуют//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GEO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. – 2007. - №3. – с.160-17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етров Н.Н. Методика преподавания географии в дифференцированной школе. – М., 2000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равцов В.М., Донукалова Р.П. География Новосибирской области. – Новосибирск., 1996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Новосибирская область: природа, население, хозяйство. – Новосибирск, 2006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Уфимцев Г., Сизов А. Были и явь степного Алтая//Живописная Россия. – 2006. - №3. – с. 15-1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География международного туризма // География в школе. – 2007. - №6. – с.70-7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бдульмянов С.Н. Знакомтесь: Кош-Агач//География и экология в школе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XXI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век. – 2006. - №4. – с. 21-25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5"/>
          <p:cNvSpPr/>
          <p:nvPr/>
        </p:nvSpPr>
        <p:spPr>
          <a:xfrm>
            <a:off x="1116000" y="1628640"/>
            <a:ext cx="7272360" cy="4608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9900">
                  <a:alpha val="51372"/>
                </a:srgbClr>
              </a:gs>
              <a:gs pos="50000">
                <a:srgbClr val="ffffff"/>
              </a:gs>
              <a:gs pos="100000">
                <a:srgbClr val="009900">
                  <a:alpha val="5137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94920" y="836280"/>
            <a:ext cx="7086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eorgia"/>
              </a:rPr>
              <a:t>Приложение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63640" y="2276280"/>
            <a:ext cx="6618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ллекция фотографий «Санатории Алта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ллекция фотографий «Байкал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ллекция фотографий санаторий «Сибиряк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ллекция фотографий «Телецкое озеро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5"/>
          <p:cNvSpPr txBox="1"/>
          <p:nvPr/>
        </p:nvSpPr>
        <p:spPr>
          <a:xfrm rot="640200">
            <a:off x="684000" y="1773360"/>
            <a:ext cx="741672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1584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4791ff"/>
                    </a:gs>
                    <a:gs pos="100000">
                      <a:srgbClr val="0000cc"/>
                    </a:gs>
                  </a:gsLst>
                  <a:lin ang="4758000"/>
                </a:gradFill>
                <a:latin typeface="GothicG"/>
              </a:rPr>
              <a:t>Спасибо за внимание!</a:t>
            </a:r>
            <a:endParaRPr b="1" i="1" lang="en-US" sz="1800" spc="1" strike="noStrike">
              <a:ln cap="rnd" w="1584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4791ff"/>
                  </a:gs>
                  <a:gs pos="100000">
                    <a:srgbClr val="0000cc"/>
                  </a:gs>
                </a:gsLst>
                <a:lin ang="4758000"/>
              </a:gradFill>
              <a:latin typeface="GothicG"/>
              <a:ea typeface="GothicG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90756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Объяснительная запис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628280"/>
            <a:ext cx="7086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лективный курс «Рекреационная география Сибирского ФО» рассчитана на 18 часов и предназначен для изучения в социально-экономическом профиле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ласс) профильной школ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основе содержания курса лежат знания, уже усвоенные учащимися при изучении географии, экономики, истор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 курса – создание у учащихся представления о туризме в Сибирском ФО, о его проблемах и перспективах; формирование знаний о рекреационной деятельности; воспитание патриотического отношения к родному краю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ный элективный курс является междисциплинарным и способствует решению следующих задач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владение системой знаний о физико-географических и экономико-географических аспектах формирования рекреации в Сибирском ФО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владению учащимися знаниями, умениями и навыками, позволяющими им самостоятельно давать оценку о развитии туризма в рекреационных зонах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5"/>
          <p:cNvSpPr/>
          <p:nvPr/>
        </p:nvSpPr>
        <p:spPr>
          <a:xfrm rot="5400000">
            <a:off x="4011120" y="5502240"/>
            <a:ext cx="976320" cy="1439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360000 h 1439640"/>
              <a:gd name="textAreaBottom" fmla="*/ 108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50000">
                <a:srgbClr val="3399ff"/>
              </a:gs>
              <a:gs pos="100000">
                <a:srgbClr val="000099"/>
              </a:gs>
            </a:gsLst>
            <a:lin ang="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86920" y="1125360"/>
            <a:ext cx="72313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рс базируется на природно-географических, экономико-географических и др. составляющих и предполагает приобретение и развитие знаний у старшеклассников о рекреации в Сибирском ФО, проблемах и перспективах развития. А также курс позволяет применить полеченные знания в ходе подготовки индивидуальных проект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аботанный курс включает в себя сведения о природных ресурсах и природных условиях Сибирского ФО; экономический обзор туристической деятельности; географию рекреационных районов на территории Сибирского Ф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а практических работ позволяет учащимся закрепить приобретённые знания, умения и навыки работы с картографическими, статистическими, экономико-географическими и д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ходе изучения данного курса возможно применение следующих форм обучения: урок, лекция, семинар, практикум, самостоятельная работа учащихся, экскурсии, представление и защита творческих рабо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d200"/>
            </a:gs>
            <a:gs pos="100000">
              <a:srgbClr val="d0f7d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63280" y="691920"/>
            <a:ext cx="7086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Содержание программ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6920" y="1484280"/>
            <a:ext cx="72313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едмет и понятия рекреационная география. Место в системе наук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креация – это определённые виды избирательной жизнедеятельности людей в свободное время и пространство, в котором они функционируют. Рекреационная география находится на стыке наук: географии, экономики, истории, экологии и др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оставить ЛОК «Предмет и понятия рекреационная география. Место в системе наук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2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Физико-географические и экологические предпосылки развития рекреации в Сибирском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родные условия и природные ресурсы Сибирского ФО. Климат, рельеф и природные зоны данного региона. Экологическая обстановка в Сибирском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ать оценку экологического состояния территории Сибирского ФО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3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Экономико-географический фактор развития рекреации в Сибирском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кономический потенциал данной территории. Общий уровень развития, структура хозяйства, качество жизни, степень урбанизированности и мобильности населения Сибирского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ать оценку экономико-географического положения Сибирского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5"/>
          <p:cNvSpPr/>
          <p:nvPr/>
        </p:nvSpPr>
        <p:spPr>
          <a:xfrm rot="5400000">
            <a:off x="3986280" y="5958000"/>
            <a:ext cx="606240" cy="876240"/>
          </a:xfrm>
          <a:custGeom>
            <a:avLst/>
            <a:gdLst>
              <a:gd name="textAreaLeft" fmla="*/ 75600 w 606240"/>
              <a:gd name="textAreaRight" fmla="*/ 530640 w 606240"/>
              <a:gd name="textAreaTop" fmla="*/ 218880 h 876240"/>
              <a:gd name="textAreaBottom" fmla="*/ 6573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d200"/>
              </a:gs>
              <a:gs pos="100000">
                <a:srgbClr val="ffffff"/>
              </a:gs>
            </a:gsLst>
            <a:lin ang="0"/>
          </a:gra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d200"/>
            </a:gs>
            <a:gs pos="100000">
              <a:srgbClr val="bff4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258560" y="1125360"/>
            <a:ext cx="7086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1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4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лассы туристической деятельности. Виды туризма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лассификация туристической деятельности. Виды туризма. Особенности туристической деятельности на территории Сибирского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ворческое задание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азработать туристический маршрут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1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5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уристический рынок на территории Сибирского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сто туризма на Мировом рынке и на внутреннем рынке. Особенности туристического бизнес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Экскурс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о туристическим фирмам г. Новосибирс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1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6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екреационные ресурсы Сибирского ФО. Проблемы и перспективы развит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креационно-ресурсный потенциал территории, выражающийся в количестве и качестве природных и культурно-исторических ресурсов. Проблемы и перспективы развит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оставить таблицу «Рекреационные ресурсы Сибирского ФО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амостоятельн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а основе таблицы составить карту : «Рекреационные ресурсы Сибирского ФО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ворческое задание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азработать программу одного рекреационного ресурса по выбору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Экскурсии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а святой источник г. Ложок; по санаториям и лагерям г. Бердска (санатории: «Рассвет», «Сибиряк» и др.; ДОЛ  «Юбилейный»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8920" y="836280"/>
            <a:ext cx="62658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матическое планиро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71640" y="1413000"/>
          <a:ext cx="7905600" cy="5364000"/>
        </p:xfrm>
        <a:graphic>
          <a:graphicData uri="http://schemas.openxmlformats.org/drawingml/2006/table">
            <a:tbl>
              <a:tblPr/>
              <a:tblGrid>
                <a:gridCol w="701640"/>
                <a:gridCol w="2836800"/>
                <a:gridCol w="968400"/>
                <a:gridCol w="1036800"/>
                <a:gridCol w="1234800"/>
                <a:gridCol w="1127160"/>
              </a:tblGrid>
              <a:tr h="647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ч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к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инары, пра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курс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мет и понятие рекреационная география. Место в системе наук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ко-географические и экологические предпосылки развития рекреации в Сибирском Ф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номико-географический фактор развития рекреации в Сибирском Ф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ы туристической деятельности. Виды туризм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ристический рынок на территории Сибирского Ф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креационная география Сибирского ФО. Проблемы и перспективы развит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творческих рабо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83664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Контрольно-измерительные материал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41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4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  <a:hlinkClick r:id="rId2"/>
              </a:rPr>
              <a:t>Лист оценки проек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4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Индивидуальная карта взаимооценки участника проектир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74"/>
          <p:cNvSpPr/>
          <p:nvPr/>
        </p:nvSpPr>
        <p:spPr>
          <a:xfrm>
            <a:off x="-92160" y="33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7"/>
          <p:cNvSpPr/>
          <p:nvPr/>
        </p:nvSpPr>
        <p:spPr>
          <a:xfrm>
            <a:off x="1116000" y="422100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80"/>
          <p:cNvGrpSpPr/>
          <p:nvPr/>
        </p:nvGrpSpPr>
        <p:grpSpPr>
          <a:xfrm>
            <a:off x="611280" y="3716280"/>
            <a:ext cx="7705800" cy="2881440"/>
            <a:chOff x="611280" y="3716280"/>
            <a:chExt cx="7705800" cy="2881440"/>
          </a:xfrm>
        </p:grpSpPr>
        <p:sp>
          <p:nvSpPr>
            <p:cNvPr id="153" name="AutoShape 76"/>
            <p:cNvSpPr/>
            <p:nvPr/>
          </p:nvSpPr>
          <p:spPr>
            <a:xfrm>
              <a:off x="611280" y="3716280"/>
              <a:ext cx="7705800" cy="2881440"/>
            </a:xfrm>
            <a:prstGeom prst="horizontalScroll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61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78"/>
            <p:cNvSpPr/>
            <p:nvPr/>
          </p:nvSpPr>
          <p:spPr>
            <a:xfrm>
              <a:off x="1403280" y="4221000"/>
              <a:ext cx="6769080" cy="21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Все пункты оцениваются по единой бальной системе: 0, 5, 10, 15, 20 балло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Самооценка и оценка класса выставляются по критериям подготовки и защиты проекта, оценки учителя выставляются только по критериям защиты проекта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WordArt 79"/>
            <p:cNvSpPr txBox="1"/>
            <p:nvPr/>
          </p:nvSpPr>
          <p:spPr>
            <a:xfrm>
              <a:off x="1042920" y="4221000"/>
              <a:ext cx="488880" cy="6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5840">
                    <a:solidFill>
                      <a:srgbClr val="c4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latin typeface="Goudy Stout"/>
                </a:rPr>
                <a:t>!</a:t>
              </a:r>
              <a:endParaRPr b="1" i="1" lang="en-US" sz="1800" spc="1" strike="noStrike">
                <a:ln w="15840">
                  <a:solidFill>
                    <a:srgbClr val="c4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Goudy Stout"/>
                <a:ea typeface="Goudy Stout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2133360"/>
            <a:ext cx="84978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Georgia"/>
              </a:rPr>
              <a:t>Тема: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Рекреационные ресурсы Сибирского Федерального округа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Проблемы и перспектив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457200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имер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fc7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294920" y="1125000"/>
            <a:ext cx="7086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одолжить формирование представлений о рекреационных ресурсах Сибирского Ф.О., проблемах и перспективах развития отдыха, туризма, леч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азвивать мышление и речь учащихся, в процессе работы с печатными изданиями и последующем представлении результатов раб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содействовать экологическому воспитанию, при рассмотрении проблем стоящих перед объектами рекреации Сибирского Ф.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5" descr="j0297003"/>
          <p:cNvPicPr/>
          <p:nvPr/>
        </p:nvPicPr>
        <p:blipFill>
          <a:blip r:embed="rId1"/>
          <a:stretch/>
        </p:blipFill>
        <p:spPr>
          <a:xfrm>
            <a:off x="6588000" y="115920"/>
            <a:ext cx="2376720" cy="16952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3:56:03Z</dcterms:created>
  <dc:creator>Шаманаев С.Н.</dc:creator>
  <dc:description/>
  <dc:language>en-US</dc:language>
  <cp:lastModifiedBy>LEGION</cp:lastModifiedBy>
  <dcterms:modified xsi:type="dcterms:W3CDTF">2014-12-29T09:12:55Z</dcterms:modified>
  <cp:revision>51</cp:revision>
  <dc:subject/>
  <dc:title>Тема: Рекреационные ресурсы Сибирского Федерального округа. Проблемы и перспективы</dc:title>
</cp:coreProperties>
</file>